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C0F4-F89A-41BD-92A8-7E8FF024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440" y="506160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028A-AF8E-48AB-90D0-1AB264C3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440" y="506160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0360" y="506160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799-D523-403C-91BE-3FB55CA0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1960" y="251424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38480" y="251424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440" y="506160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1960" y="506160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38480" y="506160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A70-B924-484D-9472-DE76D950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E0AE-0ED6-42AB-AE30-7C52F711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6BCC-2199-46EC-8198-7F78BCC1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5E85-68D5-432D-9D3D-7E01C0CF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0E0D-1AE2-4DCE-A24E-DB4F25A5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978D-659E-4579-A481-F50F7C12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AC5E-F041-4D58-AB42-F33E55D0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506160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C4CA-9BFF-481C-A144-A58095A3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B6B-7C6F-4EDE-B4E6-3FD4C8B0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90360" y="506160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8D47-FAF0-49E4-983E-422329F6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506160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18EB-62A0-46F8-9326-90EB489E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506160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25ED-B85C-444C-8B36-B3B7C40B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506160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90360" y="506160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F36E-6508-4A93-8854-C52B26C7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1960" y="251424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838480" y="251424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506160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1960" y="506160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838480" y="5061600"/>
            <a:ext cx="2453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5FCA-81DC-47AF-92E6-15BB7D45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821-0A5B-4495-AD62-AE4AA2DD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0FB3-7067-4ABE-AFA1-03117300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2A7-E20E-4457-8B33-764DF3FE6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9565-CB25-4D83-8575-89AE7C0A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440" y="506160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E847-FF41-4E83-9FE0-01713A0F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0360" y="506160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763-9385-4F95-9FCA-60DC55FD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0360" y="2514240"/>
            <a:ext cx="3718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440" y="5061600"/>
            <a:ext cx="7620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4F87-EF43-41A5-A0A7-CF741FBA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0FAF-B7F7-4CBA-B472-C66A38D19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3EB9-125F-4473-BC0B-1D453A552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Chapter 28</a:t>
            </a:r>
            <a:br>
              <a:rPr sz="5400"/>
            </a:b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THE ONSET OF </a:t>
            </a:r>
            <a:br>
              <a:rPr sz="5400"/>
            </a:b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THE COLD WAR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599840" y="388620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America Past and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ighth Edi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Divine  </a:t>
            </a:r>
            <a:r>
              <a:rPr b="0" lang="en-US" sz="1400" spc="-1" strike="noStrike">
                <a:solidFill>
                  <a:srgbClr val="000099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 Breen  </a:t>
            </a:r>
            <a:r>
              <a:rPr b="0" lang="en-US" sz="1400" spc="-1" strike="noStrike">
                <a:solidFill>
                  <a:srgbClr val="000099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 Fredrickson  </a:t>
            </a:r>
            <a:r>
              <a:rPr b="0" lang="en-US" sz="1400" spc="-1" strike="noStrike">
                <a:solidFill>
                  <a:srgbClr val="000099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 Williams  </a:t>
            </a:r>
            <a:r>
              <a:rPr b="0" lang="en-US" sz="1400" spc="-1" strike="noStrike">
                <a:solidFill>
                  <a:srgbClr val="000099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 Gross  </a:t>
            </a:r>
            <a:r>
              <a:rPr b="0" lang="en-US" sz="1400" spc="-1" strike="noStrike">
                <a:solidFill>
                  <a:srgbClr val="000099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  Br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Marshall Plan to Aid Europe, 1948–1952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33720" y="1828800"/>
            <a:ext cx="4422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Western Military Allianc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9: North Atlantic Treaty Organiz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litary alliance included U.S., Canada, most of western Europ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.S. troops stationed in Europ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ATO intensified Russia's fear of the Wes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Berlin Blocka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June, 1948: Russians blockade of Berli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ruman ordered airlift to supply the cit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9: Russians end blockad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.S. political victory dramatized divi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Cold War Expand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7: U.S.-Russian arms race accelerate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flict expanded to As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Military Dimension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792504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7: National Security Act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partment of Defense unified armed for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entral Intelligence Agency coordinated intelligence-gathering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ational Security Council advised president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fense budget devoted to air pow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9: First Russian atomic bomb exploded, U.S. began hydrogen bomb develop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Cold War in Asi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5: U.S. consolidates hold on Japan, former Japanese possessions in Pacific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9: Victory of Mao Tse-tung brings China into Soviet orbi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ruman refused recognition of Communist China, began building up Japa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Korean War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7620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June 25, 1950: Communist North Korean forces invaded U.S.-influenced South Kore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ruman made South Korea’s defense a U.N. effort, sent in U.S. troop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.S. routed Korean forces in South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ttempt to unify Korea drew in China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.S. pushed back to South, war a stalema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sult: Massive American rearmament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Korean War, 1950–1953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3125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Cold War at Hom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ew Deal economic policies undermine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ears of Communist subver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epublicans used anticommunism to revive their part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ruman's Trouble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bstacles to Truman’s Fair Deal reform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pathetic public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fla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bor unrest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6: Republicans won Congr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Cold War Begins: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ssues Dividing U.S., U.S.S.R.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3000240"/>
            <a:ext cx="7620120" cy="439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ntrol of postwar Europ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conomic ai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uclear disarm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ruman Vindicated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aft-Hartley Act outlawed certain union tact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ruman vetoed, Republicans overrode his veto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948 election:  Truman thought unelectab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thern liberals supported Henry Wallace’s Progressive candida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outhern Democrats supported “Dixiecrat” Strom Thurmond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publican Thomas Dewey overconfident and ran bland campaign, failed to challenge Truman on Cold War because of the Berlin Crisi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oosevelt coalition reelected Truman on domestic issu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752480" y="533520"/>
            <a:ext cx="49672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Loyalty Issu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House Un-American Activities Committee investigated Communist subversion in govern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ruman responded with loyalty program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lger Hiss ca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mocrats blamed fo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sing" China to Communism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ussia's development of a hydrogen bomb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McCarthyism in Action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50: Senator Joseph McCarthy launched anticommunist campaign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nocent overwhelmed by accusations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Attacks on privileged bureaucrats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upported by Midwest Republicans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ttracted Irish, Italian, Polish workers to Republica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Republicans in Power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52: Eisenhower captures White House for Republican Party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July 27, 1953: stalemate accepted in Kore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isenhower dealt passively with McCarth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54: Attack on Army discredited McCarthy who is then censure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Election of 1952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rcRect l="0" t="20294" r="0" b="0"/>
          <a:stretch/>
        </p:blipFill>
        <p:spPr>
          <a:xfrm>
            <a:off x="380880" y="2895480"/>
            <a:ext cx="77724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isenhower Wages </a:t>
            </a:r>
            <a:br>
              <a:rPr sz="4400"/>
            </a:b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Cold War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isenhower prefers to work behind-the scenes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isenhower wanted to relax tensions with Sovie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bt imposed by defense spending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ssibility of atomic warfa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isenhower “new look” policy relied on massive retaliation to deter Soviet attack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ntanglement in Indochin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62012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isenhower refused military aid for French retention of colonial Indochina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ctory of Communist Ho Chi Minh prompted intervention to prevent el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Vietnam divided, election postpone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uth Vietnam under U.S. puppet regim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ntaining Chin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ough line against Chin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rove wedge between China, Russia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rategy ultimately worke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ffects not immediately appar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urmoil in the Middle Eas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56: Nasser nationalized Suez Can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rance, England invaded Egyp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isenhower won Middle East trust by pressuring English, French withdraw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58: Lebanon invited U.S. troops to maintain ord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Division of Europ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5: Russians occupied eastern Europe,  American troops occupied western Europ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viet Union sought eastern European buffer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U.S. demanded national self-determination through free elections throughout Europ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talin converted eastern Europe into a system of satellite nations 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vert Action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entral Intelligence Agency (CIA) used to achieve covert objectives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ran: CIA restored the shah to pow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uatemala: CIA ousts leftist govern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astern Europe: Refused to help East Germans or Hungaria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Waging Peac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uclear test ban treat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.S. and U.S.S.R. agreed to suspend  nuclear testing in the atmosphe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ctober, 1957: Russians launched </a:t>
            </a: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Sputnik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ay, 1960: U-2 incident cancelled plans for summit on new Berlin Crisi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Continuing Cold War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January, 1961: Eisenhower warned against growing military-industrial comple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ost-war era marked by Cold War rather than peace and tranquilit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Europe after World War II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762012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Withholding Economic Aid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ussia devastated by World War II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me Americans sought to influence Russia with Lend-Lease economic aid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5: United States halted Lend-Lease without Russian settle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verage lost in shaping Soviet polic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Atomic Dilemma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3: Nuclear race between U.S. and U.S.S.R.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6: Baruch Plan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pid reduction of U.S. military for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adual reduction favored U.S. atomic monopol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oviet Un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arger conventional army than U.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mmediate abolition of atomic weap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ontainmen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08660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7: George C. Marshall appointed Secretary of St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ean Acheson:  England's former role as arbiter of world affai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orge Kennan: Called for “containment of Russia’s expansive tendencies”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Truman Doctrin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7: Truman sought funds to keep Greece, Turkey in Western sphere of influe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ruman Doctrine:  “Support free peoples who are resisting attempted subjugation by armed minorities or outside pressure”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Doctrine an informal declaration of cold war against the Soviet Un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The Marshall Plan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7: George Marshall proposed aid for rebuilding European industr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Russia refused aid 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948: Marshall Plan adopted by Congr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lan fostered western European prosperit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6T20:03:06Z</dcterms:created>
  <dc:creator>CMU</dc:creator>
  <dc:description/>
  <cp:keywords/>
  <dc:language>en-US</dc:language>
  <cp:lastModifiedBy>Teresa Ward User</cp:lastModifiedBy>
  <cp:lastPrinted>2012-04-19T01:07:11Z</cp:lastPrinted>
  <dcterms:modified xsi:type="dcterms:W3CDTF">2006-11-10T20:15:24Z</dcterms:modified>
  <cp:revision>8</cp:revision>
  <dc:subject/>
  <dc:title>CHAPTER 28 THE ONSET OF THE COLD WAR</dc:title>
</cp:coreProperties>
</file>